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55840"/>
        <c:axId val="97471365"/>
      </c:barChart>
      <c:catAx>
        <c:axId val="81755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1365"/>
        <c:crosses val="autoZero"/>
        <c:auto val="1"/>
        <c:lblAlgn val="ctr"/>
        <c:lblOffset val="100"/>
        <c:noMultiLvlLbl val="0"/>
      </c:catAx>
      <c:valAx>
        <c:axId val="97471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5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CE0-251B-40C3-B4B7-5BD1AF8C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7A7-E70A-4C4B-8413-C461A1C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6E5-EDDF-47EF-8CFD-BA004CB8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59F-BC4A-482D-8518-F8702CBF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EC1-C15F-4411-9F4A-4CB081B9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816-1361-46E8-81BF-1B98AFA3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4D3-2A4E-468F-8FC0-320F158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666-B239-4FCE-ABBB-C547AB1C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46F-55C0-499F-8C5B-254115C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B4E-14AF-4108-9A5D-E70A0742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545-E2E2-4CCE-91A7-6C5B841A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4F0-5792-4387-8E15-5C61827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D35AB-A2B5-49AA-BF9F-6AFB1D98B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