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67868"/>
        <c:axId val="68966498"/>
      </c:barChart>
      <c:catAx>
        <c:axId val="11367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66498"/>
        <c:crosses val="autoZero"/>
        <c:auto val="1"/>
        <c:lblAlgn val="ctr"/>
        <c:lblOffset val="100"/>
        <c:noMultiLvlLbl val="0"/>
      </c:catAx>
      <c:valAx>
        <c:axId val="68966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7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FA1-1D5D-45EA-892C-B1008392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03E-1E1D-4A28-AA8A-B1025897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B10-07A6-4F35-9CDD-B7C30AD9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78F-4E56-4EBB-8CE0-E3D5012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32D-8BA8-4026-85FA-0764C62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8E0-91D7-46F4-AA46-7395674B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52A-BA4B-4637-BEC0-7062F5D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E6-1586-410C-B19F-E354B8CB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1D8-7E73-4406-9BAF-778ED292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14E-A9D6-429B-95D2-46C7148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5E5-AD30-4C91-ADD7-AB73498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2F0-4117-471C-8E68-1595B7D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D6FA9-E724-4D51-9F3A-1F6EB64EBE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