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62431"/>
        <c:axId val="60544527"/>
      </c:barChart>
      <c:catAx>
        <c:axId val="62962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44527"/>
        <c:crosses val="autoZero"/>
        <c:auto val="1"/>
        <c:lblAlgn val="ctr"/>
        <c:lblOffset val="100"/>
        <c:noMultiLvlLbl val="0"/>
      </c:catAx>
      <c:valAx>
        <c:axId val="60544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62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EE9-CE2B-4AAD-BEDE-373CC5EF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612-2E4E-4C2E-AD73-381AC3F2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3566-4472-4847-BE8F-88D7D6D8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07F-A064-4119-A1A5-100BD510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7F1-E678-43F6-8222-509A4989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CA8-7D2B-4A03-BF66-18C192FD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052-1B39-4C57-9EFA-979D239C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5B9-8C3C-42AF-8574-5C022518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0B0-9332-43B1-B80D-0C4DF662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560-8F0A-4AED-A30C-75544883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F41-CCF5-4A44-86F4-98ED8D56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652-0A5D-4B0A-8D51-12C7ACF2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9E96D-DFA9-4CCE-AFF3-BA9490EEE7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