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78248"/>
        <c:axId val="79119594"/>
      </c:barChart>
      <c:catAx>
        <c:axId val="39878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9594"/>
        <c:crosses val="autoZero"/>
        <c:auto val="1"/>
        <c:lblAlgn val="ctr"/>
        <c:lblOffset val="100"/>
        <c:noMultiLvlLbl val="0"/>
      </c:catAx>
      <c:valAx>
        <c:axId val="79119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8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6B6-E482-4EFB-9B69-EC5C6C54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661-9C59-4306-B067-F0D14C10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48E-193F-4149-96DA-1D2CC656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91E-C475-4601-A9CA-E483F394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710-3449-457A-982D-783C50A2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552-D7AB-4D75-801B-828C7781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604-D3A0-4B3B-B62D-02B26C4F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B86-68C3-4577-858F-A287B87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E2E-0397-4DC5-B157-60205957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47C-1EE5-4B55-A34F-6654D58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76B-8E91-47B5-894E-04DAE9C0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282-5001-4451-9AD0-29FE067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CB7CB-CDC1-41EB-BA72-C4E896C4C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