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06701"/>
        <c:axId val="26613900"/>
      </c:barChart>
      <c:catAx>
        <c:axId val="54206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13900"/>
        <c:crosses val="autoZero"/>
        <c:auto val="1"/>
        <c:lblAlgn val="ctr"/>
        <c:lblOffset val="100"/>
        <c:noMultiLvlLbl val="0"/>
      </c:catAx>
      <c:valAx>
        <c:axId val="26613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06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0B1-921B-4C49-9835-114E1D36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F6B-EF4F-4421-8383-BE0734EB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880-21B2-4B2C-AB1D-75A9FA86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EBD-0B68-40F7-8CEE-EE5E3C55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668-1729-4869-AF6B-B1A42C20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5DC-7D02-4FA5-89F8-9807C60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DAD-8AD6-4C64-84A2-427277D5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0EA-D436-4F0B-8A71-0F397A3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32D-4EE8-4608-9591-CF6713F1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E75-DFE0-42AE-A4C6-585508F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216-B828-41D2-A21E-BAC6B25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194-6379-4836-82C4-536255A5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9B851-E79A-4CDE-8752-0FA3BA7949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