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025189"/>
        <c:axId val="63900343"/>
      </c:barChart>
      <c:catAx>
        <c:axId val="290251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00343"/>
        <c:crosses val="autoZero"/>
        <c:auto val="1"/>
        <c:lblAlgn val="ctr"/>
        <c:lblOffset val="100"/>
        <c:noMultiLvlLbl val="0"/>
      </c:catAx>
      <c:valAx>
        <c:axId val="639003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251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05E5-67F9-4DE3-A55B-007666202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038D-ED88-400E-A56B-960EC62D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D979-BD16-45B4-B172-F9D47ECFB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1BE1-86C1-46C5-8E65-705650FD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8E20-A635-4716-8966-1BD1839E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7879-D932-40EA-B10D-5C9BDCC8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93B6-AC2F-4074-A6A1-70288E2A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2CB3-1D68-41BA-A29D-BB5578E0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B278-3691-4FD7-90DE-52DCF91A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6759-D19F-479A-896D-D34C4071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729E-C290-4337-84BE-C95F28B6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2FC7-49B6-46F0-9BBB-FA598624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6C3F5-09CE-4C6C-B829-063CEF98A0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