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3862"/>
        <c:axId val="82421076"/>
      </c:barChart>
      <c:catAx>
        <c:axId val="5763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21076"/>
        <c:crosses val="autoZero"/>
        <c:auto val="1"/>
        <c:lblAlgn val="ctr"/>
        <c:lblOffset val="100"/>
        <c:noMultiLvlLbl val="0"/>
      </c:catAx>
      <c:valAx>
        <c:axId val="82421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198-5AAB-4FA6-8668-DBEA6408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3AD-B394-4D47-856D-7396F24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C88-E1B4-4F70-ABC7-F6CA56FA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FD6-100B-49C8-92E4-138B4752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D3E-2139-468D-97DE-8394B6F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B35-FB4C-44A5-94BD-1261E90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931-D12D-4D56-BC9A-45AD63E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205-60CD-4F14-BBD9-AE4096B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AF8-B485-4653-92E4-2D56619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06C-B73D-4FAE-90E9-85C2D67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994-9696-4CC3-ABA8-1C15F47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F5D-970D-4049-95E2-53E5510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C4CDE-A46A-4E49-9FA8-D7F281822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