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37359"/>
        <c:axId val="50971068"/>
      </c:barChart>
      <c:catAx>
        <c:axId val="15537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71068"/>
        <c:crosses val="autoZero"/>
        <c:auto val="1"/>
        <c:lblAlgn val="ctr"/>
        <c:lblOffset val="100"/>
        <c:noMultiLvlLbl val="0"/>
      </c:catAx>
      <c:valAx>
        <c:axId val="50971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37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8D2-86D3-4C03-BA5C-9E057B24D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3FF-48D4-47E5-9073-A27DE6D6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70F-5C5F-4185-A649-1AE7A332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FF8-D27D-4D80-ACF0-726FB270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D27-2E8B-4C7A-A3E5-DDDEF6D1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AA6-8874-4078-A4B4-15637333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93E-589A-43E2-BDBD-BB0C26C2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FB1-8167-4A94-938C-FA0F844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02B-4A66-47B5-AA01-30B75B6D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63C-ED60-4990-A9AD-FDB8DFC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38E-E94A-4DEE-87F7-C4A952C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F234-2FAD-4607-91D7-4688533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69CC1-9FD5-4B39-8A12-9717C8FCC0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