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305529"/>
        <c:axId val="9419935"/>
      </c:barChart>
      <c:catAx>
        <c:axId val="44305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9935"/>
        <c:crosses val="autoZero"/>
        <c:auto val="1"/>
        <c:lblAlgn val="ctr"/>
        <c:lblOffset val="100"/>
        <c:noMultiLvlLbl val="0"/>
      </c:catAx>
      <c:valAx>
        <c:axId val="9419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05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B68-8562-42BD-B2B7-A27B8A6A5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8F4F-ED18-4DBD-B427-A7A9764D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76B5-4588-47F8-BB43-003D41883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E19-E285-41EE-AE69-8BF9AD90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DC1-A334-45C0-A605-95874F69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E08D-0C8D-4023-B90E-B122831F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1A1-C958-497F-A4A4-429475FB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731-197B-4D61-8B9F-3B3AD275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E03-85C5-458F-9AC2-EEEC1C51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DB7-F7F2-4342-93F3-D9E6A3B9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FBC-52C9-4DC7-AAEE-65062643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762-37D1-4D56-B2DA-051123A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26634-5623-4056-8BC7-D324A734CD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