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33233"/>
        <c:axId val="25972415"/>
      </c:barChart>
      <c:catAx>
        <c:axId val="72033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72415"/>
        <c:crosses val="autoZero"/>
        <c:auto val="1"/>
        <c:lblAlgn val="ctr"/>
        <c:lblOffset val="100"/>
        <c:noMultiLvlLbl val="0"/>
      </c:catAx>
      <c:valAx>
        <c:axId val="25972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33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AA7-4262-48DA-A161-FB2AB6DA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26A-6C77-4BF4-9754-5F625D7E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3EA-F120-46B3-B4C3-839FD98D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49D-AF9D-4733-9276-4DAFEF7B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87C-7CC8-4F3D-BDFF-0762C19E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C96-1527-4E59-A922-DF452585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449-EC4F-4F5C-8381-D9316D0A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286-1E11-4568-BE23-CCD3DB5F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862-48E1-416B-8D6D-708AE354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B6E-C8AD-4166-9259-E0E4DD1C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716-A676-44CF-B500-97008BEA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7C7-CB0E-447F-99FD-89CFA9F9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2B1AE-30E1-404A-BCB6-63BB19CFB8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