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84910"/>
        <c:axId val="708283"/>
      </c:barChart>
      <c:catAx>
        <c:axId val="63184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283"/>
        <c:crosses val="autoZero"/>
        <c:auto val="1"/>
        <c:lblAlgn val="ctr"/>
        <c:lblOffset val="100"/>
        <c:noMultiLvlLbl val="0"/>
      </c:catAx>
      <c:valAx>
        <c:axId val="708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84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81E-0BA7-4848-A476-E5A0C7B8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A73-FE4F-4E43-917D-4F18D526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615-104C-4DEB-AD80-9ED9B423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502-D61C-4E7A-87CC-7CB4A6DB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371-0505-4F64-B2B5-6C9820A8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830-EE79-48A3-8920-4FE051BD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666-D4CA-46C6-B76A-36CDEE91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AAA-83D1-4811-BCCD-86E4686E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B95-ADC2-4944-BBFA-C94BBDAE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804-EE30-4B8E-98AB-B5B040CF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C74-7694-46C6-B679-75957B5F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484-B1CE-4A04-B854-4121F25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3A178-0658-446D-A614-7ADCEC139A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