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05056"/>
        <c:axId val="83527598"/>
      </c:barChart>
      <c:catAx>
        <c:axId val="23605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27598"/>
        <c:crosses val="autoZero"/>
        <c:auto val="1"/>
        <c:lblAlgn val="ctr"/>
        <c:lblOffset val="100"/>
        <c:noMultiLvlLbl val="0"/>
      </c:catAx>
      <c:valAx>
        <c:axId val="83527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05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233-2AA1-47AC-994F-68497DBF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321-3A57-4587-A855-FC6782C7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22E-6DC7-43CC-B8CA-AEBF04F5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41B-C049-4F4E-B0FB-BCBE4798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D6E-97F0-4966-9C0B-9ADB3B74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820-DA2D-491A-8774-83EB4804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410-FC8B-4C93-907B-3E1284DD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531-A160-4AEA-A0C9-2DEF6DCF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E20-AD52-4BF2-83B3-33F1D8DB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255-6407-4C4F-B82D-4304694B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5F6-770B-4411-901E-D86CE79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7EC-5B91-4632-850D-6BAB0C56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0ADBA-C692-4799-BC5E-FF1BBA0EBA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