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45853"/>
        <c:axId val="22971332"/>
      </c:barChart>
      <c:catAx>
        <c:axId val="90045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71332"/>
        <c:crosses val="autoZero"/>
        <c:auto val="1"/>
        <c:lblAlgn val="ctr"/>
        <c:lblOffset val="100"/>
        <c:noMultiLvlLbl val="0"/>
      </c:catAx>
      <c:valAx>
        <c:axId val="22971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45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858-327A-4E54-BCBA-B39EC2B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529-4D2B-4AE1-949F-8A4E6F4D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E21-5678-419E-AA34-FE6A14B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195-2BCD-4DEB-A621-9339BC0C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3E8-BCA7-4695-B546-5FDC874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801-249B-4BC9-889B-FC90A57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A1A-A8F8-4133-B37B-E9632163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1CE-43FC-45EB-BDE4-503D68D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2CE-3D9A-4440-9A6D-B7D7082E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697-7B1F-4577-A68F-C72FD40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2B-0847-4855-AA5A-517A228A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04C-349B-43B0-BFF2-37B1CF1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D934C-85AA-42D6-9123-9972E6C645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