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65578"/>
        <c:axId val="69631644"/>
      </c:barChart>
      <c:catAx>
        <c:axId val="79465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31644"/>
        <c:crosses val="autoZero"/>
        <c:auto val="1"/>
        <c:lblAlgn val="ctr"/>
        <c:lblOffset val="100"/>
        <c:noMultiLvlLbl val="0"/>
      </c:catAx>
      <c:valAx>
        <c:axId val="69631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65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420-1DC0-4531-9C24-D7FBFE13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0D8-E615-4FA7-AD1B-BB2758B2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BBC-C1A8-408A-86E2-9A5EF3CB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F5F-2540-4780-B91B-7B962E42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22F-12D7-4E2A-BD1D-2B3AC08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9A1-47B7-42EF-90EE-BFB858C6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149-0D76-410D-916A-FC328785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B60-5753-4C07-9FAF-8B84E36B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224-97DA-4952-9597-A18409C0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F410-2D6B-412A-95BE-FDB0FF1F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3AC-219F-49BC-8FFD-2EB41E0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FBB-2FB0-4E35-B144-5AA2FB8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EB65C-0A9F-468B-A76D-7F2095F31B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