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472683"/>
        <c:axId val="41435704"/>
      </c:barChart>
      <c:catAx>
        <c:axId val="564726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435704"/>
        <c:crosses val="autoZero"/>
        <c:auto val="1"/>
        <c:lblAlgn val="ctr"/>
        <c:lblOffset val="100"/>
        <c:noMultiLvlLbl val="0"/>
      </c:catAx>
      <c:valAx>
        <c:axId val="414357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4726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A8D0-EA58-49B1-8191-A17CEBD04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4691-A39C-4EA2-B96C-9AB823806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F37F-20A0-4446-8C9D-4C1DBF567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7B78-0FF7-42AC-9121-8EC899D54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5FA5-627A-4AEA-8833-221030640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F785-BF91-416C-AC36-4B1A31C53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7AD2-76D2-40EC-81A8-EAB17D79E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9863-EB32-4291-B9F6-82647D2CF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D38F-6B8B-426C-9A43-67C49812C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31AE-F0B0-427B-AC5C-CB209C11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0560-9233-4185-BF03-F0F067E0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7DBC-7962-4F70-98DE-F5B9F2C3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6FFEE8-8064-4567-BC52-03C1584FCF8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