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60031"/>
        <c:axId val="1076883"/>
      </c:barChart>
      <c:catAx>
        <c:axId val="53360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6883"/>
        <c:crosses val="autoZero"/>
        <c:auto val="1"/>
        <c:lblAlgn val="ctr"/>
        <c:lblOffset val="100"/>
        <c:noMultiLvlLbl val="0"/>
      </c:catAx>
      <c:valAx>
        <c:axId val="1076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60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374-96AD-452A-8604-B251E144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8A6-4205-475C-B537-2FE20935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07C-3AF8-4438-9C5F-7B41382F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360-0BAB-419C-93D5-9EB7F98C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79D-A48F-4FDF-B729-E19A11BC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995-3C06-47C2-9BDF-09751AC1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FF6-AC0E-4357-A4F4-402DAA39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B80-658F-420E-AF57-28D7E9BB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170-7862-44CA-A83A-F6A9DA77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81F-A0A0-469E-88D5-6FE6940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321-0ECB-42EE-A679-8E303C67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17B-69E2-4142-A12A-99B99BE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DB556-478E-4D4D-B1EF-0D0F5270B8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