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02943"/>
        <c:axId val="94341581"/>
      </c:barChart>
      <c:catAx>
        <c:axId val="56802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41581"/>
        <c:crosses val="autoZero"/>
        <c:auto val="1"/>
        <c:lblAlgn val="ctr"/>
        <c:lblOffset val="100"/>
        <c:noMultiLvlLbl val="0"/>
      </c:catAx>
      <c:valAx>
        <c:axId val="94341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02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7D65-BC0A-4EE4-A75F-FCD06246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0640-5DA0-4831-BDB4-EDB5B704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D96D-B06D-48BD-BD8E-6A5AA3F5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FA4C-9523-4010-BE2F-37FED841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98CD-6D09-4F52-9AFA-14275021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1E71-F9E9-486E-AFC4-1D912E24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F90-D218-46C9-BF65-95F804D0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6F70-2CD4-4BD2-AA6A-4F80A71E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5716-D033-4684-BB02-C747A452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A185-0800-4CCE-91E5-70CADDE6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D05-1702-4772-9E5B-0B632C81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6C7-08E5-4565-9837-91935708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1BE3B-4074-47F1-A893-6630549730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