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461270"/>
        <c:axId val="23824502"/>
      </c:barChart>
      <c:catAx>
        <c:axId val="714612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824502"/>
        <c:crosses val="autoZero"/>
        <c:auto val="1"/>
        <c:lblAlgn val="ctr"/>
        <c:lblOffset val="100"/>
        <c:noMultiLvlLbl val="0"/>
      </c:catAx>
      <c:valAx>
        <c:axId val="238245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4612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3757-FA1E-4638-BC4A-59BEE5356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031B-7A5D-4EC6-9DDC-D920F59A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A581-BA50-4A48-8BC9-10BA96747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D410-A252-4ECB-8FBA-00AE66499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7512-985A-4B8D-98EB-AED882B8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C805-AB2D-4E9E-81AE-EA1AA2FB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A70A-E602-44E9-99AD-51F129BE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509C-7631-4BD7-8022-179E1EA6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725D-CBD0-4CE7-8C62-AFBA7DB3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F08E-38F0-4854-B570-AB74C695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47DF-BEDC-4845-944F-DBF817F4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A869-289D-44D2-9F89-98948F79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A2ED7A-836A-449F-8AB8-BCD7AEAB10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