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6510"/>
        <c:axId val="6153107"/>
      </c:barChart>
      <c:catAx>
        <c:axId val="34796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3107"/>
        <c:crosses val="autoZero"/>
        <c:auto val="1"/>
        <c:lblAlgn val="ctr"/>
        <c:lblOffset val="100"/>
        <c:noMultiLvlLbl val="0"/>
      </c:catAx>
      <c:valAx>
        <c:axId val="6153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6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726-C127-45B4-A64A-8EC23A80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2ED-70C4-47A3-9449-31F2ACA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D0F-3666-4BE6-93AA-FFEBB5E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4C5-18EB-45A1-87DC-8E8E96E8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9AF-9BF9-4A77-AF67-A7B9037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B1B-5C59-4C3C-9C01-B35E50CD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2FF-C170-49F6-9938-C43E63E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11C-43F7-42FC-9DA1-8C1B55DD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E44-1858-4472-B033-B49FD27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C88-32A9-4E2D-BA02-7DBCA9C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3BC-243C-451D-8AEE-A9FB91F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8B7-39D6-4923-9949-5C739D3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1CC9-68AD-4AEC-89EE-B7C19DFBF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